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6D01B-DDE3-4BFD-8477-D1A4DA0D8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A0F4D-8CA6-49A9-B8B3-52AF71C5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E25D6-3630-4208-82D4-528D83E65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D27C3-EA84-4818-A73D-1DEE13DA3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B838-9C7C-40D5-BE09-02AAE34A7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88127-3355-4251-9230-E844BFCFB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DA8C6-8431-4C9F-8B96-756E92C98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A42B-218A-47F5-87A1-A030E72E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E68B-DA7D-437A-B13B-D8DE24B9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E314-DC58-49E2-94BA-C7D27C70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A091-120B-4ED9-A678-D5DBF05D2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CA856-7065-423F-BE72-D145C2B87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1F48-5A38-4792-AC5D-9C925CC28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5" descr=""/>
          <p:cNvPicPr/>
          <p:nvPr/>
        </p:nvPicPr>
        <p:blipFill>
          <a:blip r:embed="rId1">
            <a:grayscl/>
          </a:blip>
          <a:stretch/>
        </p:blipFill>
        <p:spPr>
          <a:xfrm>
            <a:off x="4724280" y="1371600"/>
            <a:ext cx="1440000" cy="144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5</cp:lastModifiedBy>
  <dcterms:modified xsi:type="dcterms:W3CDTF">2012-06-19T11:12:18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